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63DA-40A1-40C4-9FE0-1708A3CDEC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7FFC-1988-4368-A602-9935947D81C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B2E9-BEE8-4A45-A853-7F50E94F877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1B8E-7492-487E-AA66-C9D48F6329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B7C6-325C-4B37-8984-C9BD4BFB4F5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317A-4ADF-4310-8685-0A344E48AE3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0847-39EC-4AFF-AFF6-4C10A22830B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209D-A57B-4172-A98A-40CC72F352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C964-399E-4524-A574-5B9D2A4F11E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E0D1-ED29-477A-A9D7-DB7247BA642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9348-F6F0-43A7-AEEC-F174A2675AD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F748-62EB-4430-A493-49A4B332ACC3}" type="slidenum">
              <a:rPr b="0" lang="ko-K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1E0F-A7A2-4DEB-8CBA-1E4AFDE663C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B7A1-03BE-4092-ABB7-CE1656EE0BA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4F9E-BC56-4488-AA6F-3FF66F32F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AB5D-0E2C-473F-9D6E-2E18F8911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A57-56BC-4C22-9E8D-B6C8F809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780-FAFC-41C3-B015-7F4D07F0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E1A4-8BED-47FB-8555-F59D326F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3AB-C0B3-45FA-8184-CD04A182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54E-3009-4058-BDF0-3F83735C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5A85-FB8E-4574-9E5A-1AF77ACC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5967-0F25-4F29-9340-A46A193F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4D3-0D1D-4CA2-AF39-9BF42358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DACC-DBB6-4D12-9C41-C30EF1C6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2B6-88D6-427B-881B-E1FE020B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E92-1F84-434C-B7BD-37F16D14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505C-C807-4AC6-8051-7CE99BEA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D4F7-1486-4FD1-B0BC-73276C8B62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1052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3" descr=""/>
          <p:cNvPicPr/>
          <p:nvPr/>
        </p:nvPicPr>
        <p:blipFill>
          <a:blip r:embed="rId1"/>
          <a:stretch/>
        </p:blipFill>
        <p:spPr>
          <a:xfrm>
            <a:off x="355680" y="506520"/>
            <a:ext cx="8432640" cy="6235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23760" y="1593720"/>
            <a:ext cx="9096480" cy="3670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" descr=""/>
          <p:cNvPicPr/>
          <p:nvPr/>
        </p:nvPicPr>
        <p:blipFill>
          <a:blip r:embed="rId1"/>
          <a:stretch/>
        </p:blipFill>
        <p:spPr>
          <a:xfrm>
            <a:off x="279360" y="1844640"/>
            <a:ext cx="858528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" descr=""/>
          <p:cNvPicPr/>
          <p:nvPr/>
        </p:nvPicPr>
        <p:blipFill>
          <a:blip r:embed="rId1"/>
          <a:stretch/>
        </p:blipFill>
        <p:spPr>
          <a:xfrm>
            <a:off x="407880" y="1073160"/>
            <a:ext cx="832824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3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53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343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2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834240" cy="44258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407880" y="1069920"/>
            <a:ext cx="8328240" cy="53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"/>
          <p:cNvPicPr/>
          <p:nvPr/>
        </p:nvPicPr>
        <p:blipFill>
          <a:blip r:embed="rId1"/>
          <a:stretch/>
        </p:blipFill>
        <p:spPr>
          <a:xfrm>
            <a:off x="36360" y="1236600"/>
            <a:ext cx="9071280" cy="438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2T12:06:56Z</dcterms:created>
  <dc:creator>shentong6903@163.com</dc:creator>
  <dc:description/>
  <dc:language>en-US</dc:language>
  <cp:lastModifiedBy>Joanna</cp:lastModifiedBy>
  <cp:lastPrinted>2017-05-02T00:32:14Z</cp:lastPrinted>
  <dcterms:modified xsi:type="dcterms:W3CDTF">2019-05-16T01:46:35Z</dcterms:modified>
  <cp:revision>1199</cp:revision>
  <dc:subject/>
  <dc:title>幻灯片 1</dc:title>
</cp:coreProperties>
</file>